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e4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1CD-DD5E-4017-9CCE-813A57B30170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B93-98CF-4230-A17A-567B201603B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23400" y="448956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976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5648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2340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976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5648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34920" y="15649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128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3400" y="448956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128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976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56480" y="297180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2340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976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56480" y="4489560"/>
            <a:ext cx="234864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34920" y="15649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48956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340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2971800"/>
            <a:ext cx="3559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3400" y="4489560"/>
            <a:ext cx="72946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-11160" y="-792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e4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16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160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2102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5000" indent="-2098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tretch/>
        </p:blipFill>
        <p:spPr>
          <a:xfrm>
            <a:off x="-7920" y="-9360"/>
            <a:ext cx="9159840" cy="6876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4920" y="1564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e4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3400" y="2971800"/>
            <a:ext cx="729468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16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160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2102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5000" indent="-2098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7040" indent="-16884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health.govt.nz/system/files/documents/publications/alcohol-pregnancy-practical-guide-health-professionals.pdf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684360" y="2997360"/>
            <a:ext cx="676908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ave Hookw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alth Promotion Advis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cohol and other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95280" y="4941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c000"/>
                </a:solidFill>
                <a:latin typeface="Arial"/>
              </a:rPr>
              <a:t>Alcohol and pregnanc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62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safe time to drink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800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800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safe amount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800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800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safe type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8" descr="Pregnancy.jpg"/>
          <p:cNvPicPr/>
          <p:nvPr/>
        </p:nvPicPr>
        <p:blipFill>
          <a:blip r:embed="rId1"/>
          <a:stretch/>
        </p:blipFill>
        <p:spPr>
          <a:xfrm>
            <a:off x="6921360" y="2997360"/>
            <a:ext cx="218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3757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 the 1960s &amp; 70s science found that children born to heavy drinking mothers could have a different physical appearance to other children and serious learning and behaviour problems.  </a:t>
            </a:r>
            <a:br>
              <a:rPr sz="2400"/>
            </a:b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is was given the name Fetal Alcohol Syndrome (FAS).  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t has been described in various ways for centuries – ignored until recently.</a:t>
            </a:r>
            <a:br>
              <a:rPr sz="2400"/>
            </a:b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AS is a leading cause of mental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tardation in western societies 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 is found in all ethnicities and 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ocieties where alcohol is 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nsumed.</a:t>
            </a:r>
            <a:r>
              <a:rPr b="1" lang="en-NZ" sz="24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a7e476"/>
              </a:solidFill>
              <a:latin typeface="Arial"/>
            </a:endParaRPr>
          </a:p>
        </p:txBody>
      </p:sp>
      <p:pic>
        <p:nvPicPr>
          <p:cNvPr id="109" name="Picture Placeholder 4" descr="FAS photos 279_f2.jpg"/>
          <p:cNvPicPr/>
          <p:nvPr/>
        </p:nvPicPr>
        <p:blipFill>
          <a:blip r:embed="rId1"/>
          <a:stretch/>
        </p:blipFill>
        <p:spPr>
          <a:xfrm>
            <a:off x="5299200" y="3067200"/>
            <a:ext cx="3665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rcRect l="0" t="1114" r="0" b="0"/>
          <a:stretch/>
        </p:blipFill>
        <p:spPr>
          <a:xfrm>
            <a:off x="0" y="0"/>
            <a:ext cx="9144000" cy="5532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79280" y="56307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6 weeks old with FAS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             6 weeks old without 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lcohol effects – like an  Iceberg</a:t>
            </a:r>
            <a:br>
              <a:rPr sz="2800"/>
            </a:br>
            <a:endParaRPr b="1" lang="en-US" sz="28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9280" y="1052640"/>
            <a:ext cx="408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Fetal Alcohol Syndrome identified in 197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FAE </a:t>
            </a:r>
            <a:r>
              <a:rPr b="1" i="1" lang="en-NZ" sz="1700" spc="-1" strike="noStrike">
                <a:solidFill>
                  <a:srgbClr val="000000"/>
                </a:solidFill>
                <a:latin typeface="Arial"/>
              </a:rPr>
              <a:t>– Fetal Alcohol Effect (Historical Ter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FAS</a:t>
            </a: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 – Partial Fetal Alcohol Syndr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RBD</a:t>
            </a: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 – Alcohol-Related Birth De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RND</a:t>
            </a: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 - Alcohol-Related Neurodevelopmen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NZ" sz="1700" spc="-1" strike="noStrike">
                <a:solidFill>
                  <a:srgbClr val="000000"/>
                </a:solidFill>
                <a:latin typeface="Arial"/>
              </a:rPr>
              <a:t>Dis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FASD – (whole iceberg) Umbrella term in international literature sinc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I know I asked for ice, but this is ridiculous!"/>
          <p:cNvPicPr/>
          <p:nvPr/>
        </p:nvPicPr>
        <p:blipFill>
          <a:blip r:embed="rId1"/>
          <a:stretch/>
        </p:blipFill>
        <p:spPr>
          <a:xfrm>
            <a:off x="4994280" y="907920"/>
            <a:ext cx="4041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umbrella.jpg"/>
          <p:cNvPicPr/>
          <p:nvPr/>
        </p:nvPicPr>
        <p:blipFill>
          <a:blip r:embed="rId1"/>
          <a:stretch/>
        </p:blipFill>
        <p:spPr>
          <a:xfrm>
            <a:off x="1170000" y="92160"/>
            <a:ext cx="688356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4920" y="765000"/>
            <a:ext cx="723744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faf"/>
                </a:solidFill>
                <a:latin typeface="Arial"/>
              </a:rPr>
              <a:t>FASD</a:t>
            </a:r>
            <a:endParaRPr b="1" lang="en-US" sz="120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3933360"/>
            <a:ext cx="8856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2060"/>
                </a:solidFill>
                <a:latin typeface="Arial"/>
              </a:rPr>
              <a:t>Fetal Alcohol Spectrum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0" y="906480"/>
            <a:ext cx="914400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FASD….range of permanent effects that can occur in a person whose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mother drank alcohol during pregnancy</a:t>
            </a:r>
            <a:r>
              <a:rPr b="0" lang="en-NZ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y include physical, mental, behavioural, and/or learning disabilities with lifelong implic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TextBox 5"/>
          <p:cNvGrpSpPr/>
          <p:nvPr/>
        </p:nvGrpSpPr>
        <p:grpSpPr>
          <a:xfrm>
            <a:off x="622440" y="225360"/>
            <a:ext cx="8034120" cy="5751720"/>
            <a:chOff x="622440" y="225360"/>
            <a:chExt cx="8034120" cy="5751720"/>
          </a:xfrm>
        </p:grpSpPr>
        <p:pic>
          <p:nvPicPr>
            <p:cNvPr id="120" name="TextBox 5" descr=""/>
            <p:cNvPicPr/>
            <p:nvPr/>
          </p:nvPicPr>
          <p:blipFill>
            <a:blip r:embed="rId1"/>
            <a:stretch/>
          </p:blipFill>
          <p:spPr>
            <a:xfrm>
              <a:off x="622440" y="225360"/>
              <a:ext cx="8034120" cy="55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4360" y="520560"/>
              <a:ext cx="7920000" cy="54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8000" spc="-1" strike="noStrike">
                  <a:solidFill>
                    <a:srgbClr val="ffff00"/>
                  </a:solidFill>
                  <a:latin typeface="Arial"/>
                </a:rPr>
                <a:t>100% preventable</a:t>
              </a:r>
              <a:r>
                <a:rPr b="0" lang="en-NZ" sz="8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ffffff"/>
                  </a:solidFill>
                  <a:latin typeface="Arial"/>
                </a:rPr>
                <a:t>If a woman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 u="sng">
                  <a:solidFill>
                    <a:srgbClr val="ffffff"/>
                  </a:solidFill>
                  <a:uFillTx/>
                  <a:latin typeface="Arial"/>
                </a:rPr>
                <a:t>does not</a:t>
              </a:r>
              <a:r>
                <a:rPr b="0" lang="en-NZ" sz="4800" spc="-1" strike="noStrike">
                  <a:solidFill>
                    <a:srgbClr val="ffffff"/>
                  </a:solidFill>
                  <a:latin typeface="Arial"/>
                </a:rPr>
                <a:t> drink alcohol during pregnancy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102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Number of People with an FASD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no data on the prevalence of FASD in 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 prevalence of FASD is at least 1 per 100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ent epidemiological studies of young school age children suggest the prevalence is much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 research suggests markedly higher levels of alcohol use during pregnancy in NZ compared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nge drinking culture of NZ further exacerbates the risk as heavy episodic drinking can result in increased teratogenic effects due to the higher peak blood alcohol levels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91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333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 years of independent studies have show that between 20-40% of pregnant women in NZ report drinking during pregnan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ound 10% are drinking to intoxication after pregnancy recognition (Watson &amp; McDonald, 199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onal survey of midwives reported that 80% of teenage pregnancies are alcohol exposed (Mathew et al, 200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0%  of women believe some alcohol during pregnancy is safe (Parackal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a survey of women who had just given birth, 60% reported binge drinking prior to pregnancy recognition (Jacquemard &amp; Ho, 200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720" y="477360"/>
            <a:ext cx="79930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70c0"/>
                </a:solidFill>
                <a:latin typeface="Arial"/>
              </a:rPr>
              <a:t>Why is drinking alcohol a problem in pregnancy?</a:t>
            </a:r>
            <a:br>
              <a:rPr sz="4800"/>
            </a:br>
            <a:endParaRPr b="1" lang="en-US" sz="48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360" y="2924280"/>
            <a:ext cx="6696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crosses the plac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us less able to process the alcoho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ethanol"/>
          <p:cNvPicPr/>
          <p:nvPr/>
        </p:nvPicPr>
        <p:blipFill>
          <a:blip r:embed="rId1"/>
          <a:stretch/>
        </p:blipFill>
        <p:spPr>
          <a:xfrm>
            <a:off x="6456240" y="1484280"/>
            <a:ext cx="268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333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p to 3,000 babies born every year in NZ with FA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333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2060"/>
                </a:solidFill>
                <a:latin typeface="Arial"/>
              </a:rPr>
              <a:t>Fet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2060"/>
                </a:solidFill>
                <a:latin typeface="Arial"/>
              </a:rPr>
              <a:t>Alcoh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 u="sng">
                <a:solidFill>
                  <a:srgbClr val="ff0000"/>
                </a:solidFill>
                <a:uFillTx/>
                <a:latin typeface="Arial"/>
              </a:rPr>
              <a:t>Spectrum</a:t>
            </a:r>
            <a:r>
              <a:rPr b="1" lang="en-NZ" sz="7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2060"/>
                </a:solidFill>
                <a:latin typeface="Arial"/>
              </a:rPr>
              <a:t>Disor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l affected in a different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teratogens.jpg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2060"/>
                </a:solidFill>
                <a:latin typeface="Arial"/>
              </a:rPr>
              <a:t>Primary Disabilities That Can</a:t>
            </a:r>
            <a:br>
              <a:rPr sz="4400"/>
            </a:br>
            <a:r>
              <a:rPr b="1" lang="en-NZ" sz="4400" spc="-1" strike="noStrike">
                <a:solidFill>
                  <a:srgbClr val="002060"/>
                </a:solidFill>
                <a:latin typeface="Arial"/>
              </a:rPr>
              <a:t>Occur in Persons With an FASD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844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ower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mpaired ability in reading, spelling, and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ower level of adaptive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onfusion.jpeg"/>
          <p:cNvPicPr/>
          <p:nvPr/>
        </p:nvPicPr>
        <p:blipFill>
          <a:blip r:embed="rId1"/>
          <a:stretch/>
        </p:blipFill>
        <p:spPr>
          <a:xfrm>
            <a:off x="3492360" y="4149720"/>
            <a:ext cx="228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3058920" cy="2038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Typical Difficulties For Persons With FA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250920" y="11253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2060"/>
                </a:solidFill>
                <a:latin typeface="Arial"/>
              </a:rPr>
              <a:t>Sens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y be overly sensitive to bright lights, certain clothing, tastes and textures in food, loud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95280" y="4437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2060"/>
                </a:solidFill>
                <a:latin typeface="Arial"/>
              </a:rPr>
              <a:t>Physic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problems with balance and motor coordination (may seem “clumsy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2060"/>
                </a:solidFill>
                <a:latin typeface="Arial"/>
              </a:rPr>
              <a:t>Information Proc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not complete tasks or chores and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ppear to be oppo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rouble determining what to do i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n’t ask questions because they want to f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920" indent="2232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rouble with changes in tasks and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frsutration.jpeg"/>
          <p:cNvPicPr/>
          <p:nvPr/>
        </p:nvPicPr>
        <p:blipFill>
          <a:blip r:embed="rId1"/>
          <a:stretch/>
        </p:blipFill>
        <p:spPr>
          <a:xfrm>
            <a:off x="3181320" y="4432320"/>
            <a:ext cx="23781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600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2060"/>
                </a:solidFill>
                <a:latin typeface="Arial"/>
              </a:rPr>
              <a:t>Executive Function and Decision-Making:</a:t>
            </a:r>
            <a:endParaRPr b="1" lang="en-US" sz="32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907920"/>
            <a:ext cx="8785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2232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eatedly break the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2232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 in to peer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2232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end not to learn from mistakes or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22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sequ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2232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aïve, gullible (e.g., may walk off with a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a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2232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lipart-blob-what-do-i-do-now.gif"/>
          <p:cNvPicPr/>
          <p:nvPr/>
        </p:nvPicPr>
        <p:blipFill>
          <a:blip r:embed="rId1"/>
          <a:stretch/>
        </p:blipFill>
        <p:spPr>
          <a:xfrm>
            <a:off x="3492360" y="3716280"/>
            <a:ext cx="2525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9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2060"/>
                </a:solidFill>
                <a:latin typeface="Arial"/>
              </a:rPr>
              <a:t>FASD - effects on people’s lives….</a:t>
            </a:r>
            <a:endParaRPr b="1" lang="en-US" sz="40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diagnosed mental health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dults were dependent for their dail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employmen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expelled from or dropped out of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been in trouble with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inappropriate sexu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2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been confined for mental health reasons, alcohol and drug treatment or as a consequence of law vio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70c0"/>
                </a:solidFill>
                <a:latin typeface="Comic Sans MS"/>
              </a:rPr>
              <a:t>Alcohol is a ‘Teratogen’</a:t>
            </a:r>
            <a:endParaRPr b="1" lang="en-US" sz="5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256500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183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n agent or substanc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  <a:ea typeface="Calibri"/>
              </a:rPr>
              <a:t>that adversely affects the normal development of a fetus (unborn baby)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3,12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8,-66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223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motional, functional and behaviour problems are significantly associated with FASD and these carry on from childhood into adolescence and adulthood - independent of intellect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What does all this mean in reality?</a:t>
            </a:r>
            <a:endParaRPr b="1" lang="en-US" sz="4000" spc="-1" strike="noStrike">
              <a:solidFill>
                <a:srgbClr val="a7e4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2060"/>
                </a:solidFill>
                <a:latin typeface="Arial"/>
              </a:rPr>
              <a:t>Preventing FASD requires that all women of reproductive age and their partners, whanau, health professionals and community work individually and collectively to support that a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2060"/>
                </a:solidFill>
                <a:latin typeface="Arial"/>
              </a:rPr>
              <a:t>These are children of a society that accepts high levels of drinking as normal and that makes them </a:t>
            </a:r>
            <a:r>
              <a:rPr b="1" lang="en-NZ" sz="2800" spc="-1" strike="noStrike" u="sng">
                <a:solidFill>
                  <a:srgbClr val="002060"/>
                </a:solidFill>
                <a:uFillTx/>
                <a:latin typeface="Arial"/>
              </a:rPr>
              <a:t>everybody’s responsibility</a:t>
            </a:r>
            <a:r>
              <a:rPr b="1" lang="en-NZ" sz="2800" spc="-1" strike="noStrike">
                <a:solidFill>
                  <a:srgbClr val="002060"/>
                </a:solidFill>
                <a:latin typeface="Arial"/>
              </a:rPr>
              <a:t>, not just the mu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7bc1"/>
                </a:solidFill>
                <a:latin typeface="Arial"/>
              </a:rPr>
              <a:t>Thinking about Prevention</a:t>
            </a:r>
            <a:endParaRPr b="1" lang="en-US" sz="5400" spc="-1" strike="noStrike">
              <a:solidFill>
                <a:srgbClr val="a7e4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92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bc1"/>
                </a:solidFill>
                <a:latin typeface="Arial"/>
              </a:rPr>
              <a:t>We need to sort out how we respond to FASD prevention and intervention.</a:t>
            </a:r>
            <a:br>
              <a:rPr sz="2800"/>
            </a:br>
            <a:r>
              <a:rPr b="0" lang="en-US" sz="3000" spc="-1" strike="noStrike">
                <a:solidFill>
                  <a:srgbClr val="a7e47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Because FASD is devastating for individuals and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Because FASD is preven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Because FASD is currently below the rada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Because FASD costs too much if left in the  ‘too hard basket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2060"/>
                </a:solidFill>
                <a:latin typeface="Arial"/>
              </a:rPr>
              <a:t>Because FASD requires planned integrated respons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Because children are taonga (our treasures, our futu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TextBox 5"/>
          <p:cNvGrpSpPr/>
          <p:nvPr/>
        </p:nvGrpSpPr>
        <p:grpSpPr>
          <a:xfrm>
            <a:off x="622440" y="225360"/>
            <a:ext cx="8034120" cy="5751720"/>
            <a:chOff x="622440" y="225360"/>
            <a:chExt cx="8034120" cy="5751720"/>
          </a:xfrm>
        </p:grpSpPr>
        <p:pic>
          <p:nvPicPr>
            <p:cNvPr id="152" name="TextBox 5" descr=""/>
            <p:cNvPicPr/>
            <p:nvPr/>
          </p:nvPicPr>
          <p:blipFill>
            <a:blip r:embed="rId1"/>
            <a:stretch/>
          </p:blipFill>
          <p:spPr>
            <a:xfrm>
              <a:off x="622440" y="225360"/>
              <a:ext cx="8034120" cy="55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84360" y="520560"/>
              <a:ext cx="7920000" cy="54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8000" spc="-1" strike="noStrike">
                  <a:solidFill>
                    <a:srgbClr val="ffff00"/>
                  </a:solidFill>
                  <a:latin typeface="Arial"/>
                </a:rPr>
                <a:t>100% preventable</a:t>
              </a:r>
              <a:r>
                <a:rPr b="0" lang="en-NZ" sz="8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ffffff"/>
                  </a:solidFill>
                  <a:latin typeface="Arial"/>
                </a:rPr>
                <a:t>If a woman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 u="sng">
                  <a:solidFill>
                    <a:srgbClr val="ffffff"/>
                  </a:solidFill>
                  <a:uFillTx/>
                  <a:latin typeface="Arial"/>
                </a:rPr>
                <a:t>does not</a:t>
              </a:r>
              <a:r>
                <a:rPr b="0" lang="en-NZ" sz="4800" spc="-1" strike="noStrike">
                  <a:solidFill>
                    <a:srgbClr val="ffffff"/>
                  </a:solidFill>
                  <a:latin typeface="Arial"/>
                </a:rPr>
                <a:t> drink alcohol during pregnancy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859280" y="260280"/>
            <a:ext cx="428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3 step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alcohol and pregnancy - A practical guide for health professiona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40" y="333360"/>
            <a:ext cx="4084560" cy="5759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2060"/>
                </a:solidFill>
                <a:latin typeface="Arial"/>
              </a:rPr>
              <a:t>Prevention Starts With Asking!</a:t>
            </a: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21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Ask</a:t>
            </a:r>
            <a:r>
              <a:rPr b="1" lang="en-NZ" sz="3200" spc="-1" strike="noStrike">
                <a:solidFill>
                  <a:srgbClr val="005c4f"/>
                </a:solidFill>
                <a:latin typeface="Arial"/>
              </a:rPr>
              <a:t> all women of childbearing a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21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5c4f"/>
                </a:solidFill>
                <a:latin typeface="Arial"/>
              </a:rPr>
              <a:t>alcohol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0147a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sk routinely at every medical appoin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sk at appointments in various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sk in a nonjudgmental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 effective screening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sk about possible prenatal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88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bed questions about alcohol use in general health questions (e.g., wearing seat belts, taking vitamins, smoking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564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Advise</a:t>
            </a:r>
            <a:r>
              <a:rPr b="1" lang="en-NZ" sz="3200" spc="-1" strike="noStrike">
                <a:solidFill>
                  <a:srgbClr val="005c4f"/>
                </a:solidFill>
                <a:latin typeface="Arial"/>
              </a:rPr>
              <a:t>  all women of childbearing age about alcohol use:</a:t>
            </a:r>
            <a:endParaRPr b="1" lang="en-US" sz="32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2636640"/>
            <a:ext cx="9144000" cy="29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vide brief advice about not drinking alcohol when planning a pregnancy or when pregnant and explain why this is import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1" lang="en-NZ" sz="3200" spc="-1" strike="noStrike">
                <a:solidFill>
                  <a:srgbClr val="005c4f"/>
                </a:solidFill>
                <a:latin typeface="Arial"/>
              </a:rPr>
              <a:t>  women who are having difficulty stopping or whose drinking is problematic:</a:t>
            </a:r>
            <a:endParaRPr b="1" lang="en-US" sz="32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2492280"/>
            <a:ext cx="88930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2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fer them to a specialist addiction treatme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2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fer to the fre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lcohol Drug Hel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2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205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NZ" sz="4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NZ" sz="4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ServicesLogo.gif"/>
          <p:cNvPicPr/>
          <p:nvPr/>
        </p:nvPicPr>
        <p:blipFill>
          <a:blip r:embed="rId1"/>
          <a:stretch/>
        </p:blipFill>
        <p:spPr>
          <a:xfrm>
            <a:off x="1819440" y="4292640"/>
            <a:ext cx="49179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e60"/>
                </a:solidFill>
                <a:latin typeface="Arial"/>
              </a:rPr>
              <a:t>The Egg ???</a:t>
            </a:r>
            <a:endParaRPr b="1" lang="en-US" sz="8800" spc="-1" strike="noStrike">
              <a:solidFill>
                <a:srgbClr val="a7e476"/>
              </a:solidFill>
              <a:latin typeface="Arial"/>
            </a:endParaRPr>
          </a:p>
        </p:txBody>
      </p:sp>
      <p:pic>
        <p:nvPicPr>
          <p:cNvPr id="164" name="Picture 3" descr="egg.jpeg"/>
          <p:cNvPicPr/>
          <p:nvPr/>
        </p:nvPicPr>
        <p:blipFill>
          <a:blip r:embed="rId1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cap="sq" w="127080">
            <a:solidFill>
              <a:srgbClr val="00206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It’s never too late …..</a:t>
            </a:r>
            <a:endParaRPr b="1" lang="en-US" sz="60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560" y="1413000"/>
            <a:ext cx="828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If a woman is drinking alcohol during pregnancy, it is never too late to stop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he sooner a woman stops drinking, the better it will be for both her baby and he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8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70c0"/>
                </a:solidFill>
                <a:latin typeface="Arial"/>
              </a:rPr>
              <a:t>Common types and examples of teratogens include:</a:t>
            </a:r>
            <a:br>
              <a:rPr sz="4400"/>
            </a:b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84428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Environmental chemical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- Mercury, Benzene (major source is tobacco),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iseas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– Chickenpox, Rubella (German Measles), Syphilis, HIV, Herpes viru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rugs and medication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- Alcohol, Thalidomide, Dilantin, Tetracyc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onising radia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– computer tomography scan (CT-scan), x-rays, nuclear radi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thalidomide.jpg"/>
          <p:cNvPicPr/>
          <p:nvPr/>
        </p:nvPicPr>
        <p:blipFill>
          <a:blip r:embed="rId1"/>
          <a:stretch/>
        </p:blipFill>
        <p:spPr>
          <a:xfrm>
            <a:off x="1206360" y="888840"/>
            <a:ext cx="6731280" cy="508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bomb baby.jpeg"/>
          <p:cNvPicPr/>
          <p:nvPr/>
        </p:nvPicPr>
        <p:blipFill>
          <a:blip r:embed="rId2"/>
          <a:stretch/>
        </p:blipFill>
        <p:spPr>
          <a:xfrm>
            <a:off x="2268360" y="61920"/>
            <a:ext cx="439128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Is there a safe </a:t>
            </a:r>
            <a:r>
              <a:rPr b="1" lang="en-NZ" sz="4400" spc="-1" strike="noStrike" u="sng">
                <a:solidFill>
                  <a:srgbClr val="ff0000"/>
                </a:solidFill>
                <a:uFillTx/>
                <a:latin typeface="Arial"/>
              </a:rPr>
              <a:t>time</a:t>
            </a: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 to drink alcohol during pregnancy?</a:t>
            </a:r>
            <a:br>
              <a:rPr sz="4400"/>
            </a:b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20th Century Font"/>
              </a:rPr>
              <a:t>NO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pecially not during the first 3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women do not know they are pregnant for some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e60"/>
                </a:solidFill>
                <a:latin typeface="Arial"/>
              </a:rPr>
              <a:t>The Egg….</a:t>
            </a:r>
            <a:endParaRPr b="1" lang="en-US" sz="8800" spc="-1" strike="noStrike">
              <a:solidFill>
                <a:srgbClr val="a7e476"/>
              </a:solidFill>
              <a:latin typeface="Arial"/>
            </a:endParaRPr>
          </a:p>
        </p:txBody>
      </p:sp>
      <p:pic>
        <p:nvPicPr>
          <p:cNvPr id="99" name="Picture 3" descr="egg.jpeg"/>
          <p:cNvPicPr/>
          <p:nvPr/>
        </p:nvPicPr>
        <p:blipFill>
          <a:blip r:embed="rId1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cap="sq" w="127080">
            <a:solidFill>
              <a:srgbClr val="00206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teratogens.jpg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1970_03_001-01.jpg"/>
          <p:cNvPicPr/>
          <p:nvPr/>
        </p:nvPicPr>
        <p:blipFill>
          <a:blip r:embed="rId2"/>
          <a:stretch/>
        </p:blipFill>
        <p:spPr>
          <a:xfrm>
            <a:off x="2916360" y="189000"/>
            <a:ext cx="32097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Is there a safe </a:t>
            </a:r>
            <a:r>
              <a:rPr b="1" lang="en-NZ" sz="4400" spc="-1" strike="noStrike" u="sng">
                <a:solidFill>
                  <a:srgbClr val="ff0000"/>
                </a:solidFill>
                <a:uFillTx/>
                <a:latin typeface="Arial"/>
              </a:rPr>
              <a:t>amount</a:t>
            </a: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 of alcohol to drink during pregnancy?</a:t>
            </a:r>
            <a:br>
              <a:rPr sz="4400"/>
            </a:b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20th Century Font"/>
              </a:rPr>
              <a:t>NO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al changes &lt; 1 Std drink p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nitive skills  &lt; 1-2 Std drinks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* Binge drinking is especially harmful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Is there a safe </a:t>
            </a:r>
            <a:r>
              <a:rPr b="1" lang="en-NZ" sz="4400" spc="-1" strike="noStrike" u="sng">
                <a:solidFill>
                  <a:srgbClr val="ff0000"/>
                </a:solidFill>
                <a:uFillTx/>
                <a:latin typeface="Arial"/>
              </a:rPr>
              <a:t>type </a:t>
            </a:r>
            <a:r>
              <a:rPr b="1" lang="en-NZ" sz="4400" spc="-1" strike="noStrike">
                <a:solidFill>
                  <a:srgbClr val="ff0000"/>
                </a:solidFill>
                <a:latin typeface="Arial"/>
              </a:rPr>
              <a:t>of alcohol to drink during pregnancy?</a:t>
            </a:r>
            <a:br>
              <a:rPr sz="4400"/>
            </a:br>
            <a:endParaRPr b="1" lang="en-US" sz="4400" spc="-1" strike="noStrike">
              <a:solidFill>
                <a:srgbClr val="a7e47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628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20th Century Font"/>
              </a:rPr>
              <a:t>NO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All types of alcohol can be harm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during pregna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02:11Z</dcterms:created>
  <dc:creator>Registered User</dc:creator>
  <dc:description/>
  <dc:language>en-US</dc:language>
  <cp:lastModifiedBy>Dave Hookway</cp:lastModifiedBy>
  <dcterms:modified xsi:type="dcterms:W3CDTF">2013-09-25T21:17:11Z</dcterms:modified>
  <cp:revision>164</cp:revision>
  <dc:subject/>
  <dc:title> </dc:title>
</cp:coreProperties>
</file>